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E3D6-7342-4AE1-9DE0-AE0353382C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7367-C196-4EA2-A70B-CBE0328E2A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6B42-B7BA-4E2D-8B2F-EC93C39D08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5782-D07C-43BC-B4F8-15B1B9FAC4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87B3-5AFF-4A5D-A7FB-1966E36AC6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E809-541B-40FD-B083-4C15DF4600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E4CC-BF05-49C4-B2BB-AA20A0EF53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55A0-F7BC-4FAF-AE8C-C223C102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67C-A998-4593-83DA-DBB5C09B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690-BA50-472B-BA5A-AE20BA78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245-55C3-49E2-B25E-3E2E1562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0A2-2F95-416D-8816-EAC64F16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B3C-53E8-4794-A474-32FC5E79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C1A-4BDD-43D2-BE9A-AC738453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00B-1E06-4FA8-A4B8-73916260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4FC-DF9A-4036-A38B-63C93DF4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53F-FFFA-4F10-AFED-39931D4D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3F1-B4A4-4EDE-934A-03AE4AAB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C81-8D53-40DB-B620-9CFBAB49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D8BD-52B2-474E-9017-3CCF7F86D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Comic Sans MS"/>
              </a:rPr>
              <a:t>Pruebas de lóg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Aquí encontrarás varios juegos en los que tendrás que probar la capacidad para resolver probl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Si tu computador no puede reproducir bien alguno de éstos juegos, haz clic derecho sobre la imagen y reduce 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Ten en cuenta que todas estas pruebas tienen sol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b2b2b2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1"/>
          <a:srcRect l="4057" t="22813" r="1572" b="26701"/>
          <a:stretch/>
        </p:blipFill>
        <p:spPr>
          <a:xfrm>
            <a:off x="7286760" y="0"/>
            <a:ext cx="185724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684360" y="587700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Intercambia la posición de las ranas verdes con las ranas caf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7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8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9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"/>
          <p:cNvPicPr/>
          <p:nvPr/>
        </p:nvPicPr>
        <p:blipFill>
          <a:blip r:embed="rId1"/>
          <a:srcRect l="4046" t="22788" r="1571" b="26691"/>
          <a:stretch/>
        </p:blipFill>
        <p:spPr>
          <a:xfrm>
            <a:off x="7715160" y="0"/>
            <a:ext cx="1428840" cy="4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ShockwaveFlash1"/>
          <p:cNvGraphicFramePr/>
          <p:nvPr/>
        </p:nvGraphicFramePr>
        <p:xfrm>
          <a:off x="684360" y="549360"/>
          <a:ext cx="784836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549360"/>
                    <a:ext cx="7848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57340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Ayuda al granjero a cruzar al lobo, la oveja y los repollos al otro lado. Recuerda: Los lobos comen ovejas y las ovejas comen repol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rcRect l="4046" t="22788" r="1571" b="26691"/>
          <a:stretch/>
        </p:blipFill>
        <p:spPr>
          <a:xfrm>
            <a:off x="7715160" y="0"/>
            <a:ext cx="1428840" cy="4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ShockwaveFlash1"/>
          <p:cNvGraphicFramePr/>
          <p:nvPr/>
        </p:nvGraphicFramePr>
        <p:xfrm>
          <a:off x="395280" y="498600"/>
          <a:ext cx="8353440" cy="530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98600"/>
                    <a:ext cx="8353440" cy="53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324000" y="5950080"/>
            <a:ext cx="68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Comic Sans MS"/>
              </a:rPr>
              <a:t>Ayuda a los 3 caníbales y a los 3 misioneros a cruzar al otro lado del lago. Pero cuidado, ya que cuando en un lado hay más caníbales que misioneros, ellos se los com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7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8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2" descr=""/>
          <p:cNvPicPr/>
          <p:nvPr/>
        </p:nvPicPr>
        <p:blipFill>
          <a:blip r:embed="rId1"/>
          <a:srcRect l="4046" t="22788" r="1571" b="26691"/>
          <a:stretch/>
        </p:blipFill>
        <p:spPr>
          <a:xfrm>
            <a:off x="7715160" y="0"/>
            <a:ext cx="1428840" cy="4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ShockwaveFlash1"/>
          <p:cNvGraphicFramePr/>
          <p:nvPr/>
        </p:nvGraphicFramePr>
        <p:xfrm>
          <a:off x="1042920" y="606600"/>
          <a:ext cx="7272360" cy="519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606600"/>
                    <a:ext cx="7272360" cy="519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79280" y="5511960"/>
            <a:ext cx="7632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Ayuda a la familia a cruzar el puente. Ten en cuenta que es de noche y ocupan la linterna para cruz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Cada miembro cruza a una velocidad distinta (1 seg., 3 seg., 6 seg., 8 seg y 12 seg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El puente sólo resiste un máximo de 2 perso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Un par debe cruzar a la velocidad del miembro más l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La linterna sólo dura 30 segun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4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1"/>
          <a:srcRect l="4046" t="22788" r="1571" b="26691"/>
          <a:stretch/>
        </p:blipFill>
        <p:spPr>
          <a:xfrm>
            <a:off x="7715160" y="0"/>
            <a:ext cx="1428840" cy="4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ShockwaveFlash1"/>
          <p:cNvGraphicFramePr/>
          <p:nvPr/>
        </p:nvGraphicFramePr>
        <p:xfrm>
          <a:off x="611280" y="593640"/>
          <a:ext cx="7921440" cy="492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593640"/>
                    <a:ext cx="7921440" cy="4923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0" y="6381720"/>
            <a:ext cx="68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468360" y="6004080"/>
            <a:ext cx="2735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Para empezar haz clic en el círculo azu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Máximo 2 personas en la bal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El Padre no puede estar con las hijas sin la presencia de la Mad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419640" y="5699160"/>
            <a:ext cx="31683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La Madre no puede estar con los hijos sin la presencia del Pad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El Ladrón no puede estar con ningún miembro de la familia sin la presencia del Polic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Solo el Padre, la Madre y el Policía pueden hacer funcionar la bal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9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0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21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179280" y="5661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mic Sans MS"/>
              </a:rPr>
              <a:t>Cruzar el r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1"/>
          <a:srcRect l="4046" t="22788" r="1571" b="26691"/>
          <a:stretch/>
        </p:blipFill>
        <p:spPr>
          <a:xfrm>
            <a:off x="7715160" y="0"/>
            <a:ext cx="1428840" cy="4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ShockwaveFlash1"/>
          <p:cNvGraphicFramePr/>
          <p:nvPr/>
        </p:nvGraphicFramePr>
        <p:xfrm>
          <a:off x="826920" y="571680"/>
          <a:ext cx="7632720" cy="508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571680"/>
                    <a:ext cx="7632720" cy="5089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12:44:42Z</dcterms:created>
  <dc:creator/>
  <dc:description/>
  <dc:language>en-US</dc:language>
  <cp:lastModifiedBy>Usuario</cp:lastModifiedBy>
  <dcterms:modified xsi:type="dcterms:W3CDTF">2010-05-13T13:14:10Z</dcterms:modified>
  <cp:revision>14</cp:revision>
  <dc:subject/>
  <dc:title>River IQ Test</dc:title>
</cp:coreProperties>
</file>